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type.wav" ContentType="audio/x-wav"/>
  <Override PartName="/ppt/media/image18.jpeg" ContentType="image/jpeg"/>
  <Override PartName="/ppt/media/image17.jpeg" ContentType="image/jpeg"/>
  <Override PartName="/ppt/media/image14.png" ContentType="image/png"/>
  <Override PartName="/ppt/media/image13.png" ContentType="image/png"/>
  <Override PartName="/ppt/media/image8.png" ContentType="image/png"/>
  <Override PartName="/ppt/media/image1.png" ContentType="image/png"/>
  <Override PartName="/ppt/media/chimes.wav" ContentType="audio/x-wav"/>
  <Override PartName="/ppt/media/image16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5918-3D4A-4224-9009-AE6C68FD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851F-E702-4DAC-9D6D-7DC32C22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96D-818A-4A45-BCB6-D57131F7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DB0-2E7C-4347-8796-E0EEAC7B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3A2F-AF2B-4317-858A-ED764CBE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C44-66B3-4FF7-9313-1DE67B24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24C-A6E8-44DA-A9E3-0ED11DCB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F976-5F31-4818-A8A0-ED3D9A1C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02C4-0DD1-44AE-80B7-5C33A5FA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70B-83C9-4A31-9D8A-3DC72E6C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9C4-3B93-4292-9498-6CEA2586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25E-27A9-4D0E-B53B-968C4FF9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CDEB-470F-4A79-BA84-499122A7D9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2.gif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gi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2.gif"/><Relationship Id="rId14" Type="http://schemas.openxmlformats.org/officeDocument/2006/relationships/image" Target="../media/image14.png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71640" y="4581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2060640"/>
            <a:ext cx="60958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9 </a:t>
            </a: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寓言两则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40720" y="5950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58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52880" y="449568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0" y="47242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724360" y="371628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084720" y="4508640"/>
            <a:ext cx="2210040" cy="1606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5724360" y="479736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6516720" y="525132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6588000" y="465300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693432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6934320" y="44197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3429000" cy="2494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2"/>
          <a:stretch/>
        </p:blipFill>
        <p:spPr>
          <a:xfrm>
            <a:off x="4140360" y="1125360"/>
            <a:ext cx="5790960" cy="4211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3"/>
          <a:stretch/>
        </p:blipFill>
        <p:spPr>
          <a:xfrm>
            <a:off x="4335480" y="3360600"/>
            <a:ext cx="4808520" cy="3497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4539960"/>
            <a:ext cx="5473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他很后悔 ，不该不接受街坊的劝告，心想，现在修还不晚。他</a:t>
            </a:r>
            <a:r>
              <a:rPr b="0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赶快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堵上那个窟窿，把羊圈修得</a:t>
            </a:r>
            <a:r>
              <a:rPr b="0" lang="zh-CN" sz="2800" spc="-1" strike="noStrike" u="sng">
                <a:solidFill>
                  <a:srgbClr val="ff0066"/>
                </a:solidFill>
                <a:uFillTx/>
                <a:latin typeface="Arial"/>
                <a:ea typeface="黑体"/>
              </a:rPr>
              <a:t>结结实实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的。从此，他的羊再也没有丢过。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4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405080" y="-531720"/>
            <a:ext cx="5185080" cy="3716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979640" y="9079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拓展延伸：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2514240"/>
            <a:ext cx="633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  </a:t>
            </a: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养羊人经历了这件事之后，碰到以下问题他会怎样解决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（</a:t>
            </a: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1</a:t>
            </a: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）养羊人的衣服破了个大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（</a:t>
            </a: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333300"/>
                </a:solidFill>
                <a:latin typeface="Arial"/>
                <a:ea typeface="黑体"/>
              </a:rPr>
              <a:t>）养羊人的地里长了许多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42920" y="76500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方正行楷简体"/>
              </a:rPr>
              <a:t>作业布置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2997360"/>
            <a:ext cx="74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66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复述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89000"/>
            <a:ext cx="5184720" cy="1511280"/>
          </a:xfrm>
          <a:prstGeom prst="cloudCallout">
            <a:avLst>
              <a:gd name="adj1" fmla="val 39162"/>
              <a:gd name="adj2" fmla="val 12699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寓言的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276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寓：蕴含，寄托。言：讲道理。“则”相当于“篇”。寓言和童话一样，是一种文章体裁，它往往借一个虚构的小故事说明一个深刻的大道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0"/>
          <p:cNvPicPr/>
          <p:nvPr/>
        </p:nvPicPr>
        <p:blipFill>
          <a:blip r:embed="rId2"/>
          <a:stretch/>
        </p:blipFill>
        <p:spPr>
          <a:xfrm>
            <a:off x="7236000" y="5054760"/>
            <a:ext cx="1908000" cy="17064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0" y="0"/>
            <a:ext cx="1066680" cy="2590920"/>
            <a:chOff x="0" y="0"/>
            <a:chExt cx="1066680" cy="259092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1066680" cy="2590920"/>
            </a:xfrm>
            <a:prstGeom prst="verticalScroll">
              <a:avLst>
                <a:gd name="adj" fmla="val 125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 rot="5400000">
              <a:off x="-343080" y="1104480"/>
              <a:ext cx="1828800" cy="3812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华文中宋"/>
                </a:rPr>
                <a:t>寓言故事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2411280" y="1989000"/>
            <a:ext cx="4915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亡羊补牢</a:t>
            </a:r>
            <a:endParaRPr b="1" lang="en-US" sz="96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4581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0"/>
          <p:cNvPicPr/>
          <p:nvPr/>
        </p:nvPicPr>
        <p:blipFill>
          <a:blip r:embed="rId2"/>
          <a:stretch/>
        </p:blipFill>
        <p:spPr>
          <a:xfrm>
            <a:off x="6300720" y="4626000"/>
            <a:ext cx="284328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89000"/>
            <a:ext cx="5184720" cy="1511280"/>
          </a:xfrm>
          <a:prstGeom prst="cloudCallout">
            <a:avLst>
              <a:gd name="adj1" fmla="val 39162"/>
              <a:gd name="adj2" fmla="val 12699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你能读准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924280"/>
            <a:ext cx="71294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窟窿    街坊   劝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叼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走    后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羊</a:t>
            </a:r>
            <a:r>
              <a:rPr b="0" lang="zh-CN" sz="5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 action="ppaction://hlinksldjump"/>
              </a:rPr>
              <a:t>圈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结结实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4" action="ppaction://hlinksldjump"/>
          </p:cNvPr>
          <p:cNvSpPr/>
          <p:nvPr/>
        </p:nvSpPr>
        <p:spPr>
          <a:xfrm>
            <a:off x="7451640" y="580536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5982" y="3794"/>
                </a:moveTo>
                <a:lnTo>
                  <a:pt x="19995" y="10800"/>
                </a:lnTo>
                <a:lnTo>
                  <a:pt x="5982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5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79640" y="2637000"/>
            <a:ext cx="15825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3640" y="1844640"/>
            <a:ext cx="2600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08360" y="4721400"/>
            <a:ext cx="25923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71640" y="98100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比一比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2000" y="2492280"/>
            <a:ext cx="417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叼：最后一笔是“提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叨：最后一笔是“撇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7740720" y="4724280"/>
            <a:ext cx="504720" cy="611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611280"/>
              <a:gd name="textAreaBottom" fmla="*/ 578880 h 611280"/>
            </a:gdLst>
            <a:ahLst/>
            <a:rect l="textAreaLeft" t="textAreaTop" r="textAreaRight" b="textAreaBottom"/>
            <a:pathLst>
              <a:path w="21600" h="26157">
                <a:moveTo>
                  <a:pt x="0" y="0"/>
                </a:moveTo>
                <a:lnTo>
                  <a:pt x="21600" y="0"/>
                </a:lnTo>
                <a:lnTo>
                  <a:pt x="21600" y="26157"/>
                </a:lnTo>
                <a:lnTo>
                  <a:pt x="0" y="26157"/>
                </a:lnTo>
                <a:close/>
              </a:path>
              <a:path fill="lightenLess" w="21600" h="261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57">
                <a:moveTo>
                  <a:pt x="21600" y="0"/>
                </a:moveTo>
                <a:lnTo>
                  <a:pt x="21600" y="26157"/>
                </a:lnTo>
                <a:lnTo>
                  <a:pt x="20200" y="24757"/>
                </a:lnTo>
                <a:lnTo>
                  <a:pt x="20200" y="1400"/>
                </a:lnTo>
                <a:close/>
              </a:path>
              <a:path fill="darkenLess" w="21600" h="26157">
                <a:moveTo>
                  <a:pt x="21600" y="26157"/>
                </a:moveTo>
                <a:lnTo>
                  <a:pt x="0" y="26157"/>
                </a:lnTo>
                <a:lnTo>
                  <a:pt x="1400" y="24757"/>
                </a:lnTo>
                <a:lnTo>
                  <a:pt x="20200" y="24757"/>
                </a:lnTo>
                <a:close/>
              </a:path>
              <a:path fill="lighten" w="21600" h="26157">
                <a:moveTo>
                  <a:pt x="0" y="261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57"/>
                </a:lnTo>
                <a:close/>
              </a:path>
              <a:path fill="darken" w="21600" h="26157">
                <a:moveTo>
                  <a:pt x="3794" y="13079"/>
                </a:moveTo>
                <a:lnTo>
                  <a:pt x="17806" y="6072"/>
                </a:lnTo>
                <a:lnTo>
                  <a:pt x="17806" y="2008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79640" y="2637000"/>
            <a:ext cx="15825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</a:rPr>
              <a:t>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rot="10740000">
            <a:off x="3344400" y="2204640"/>
            <a:ext cx="432000" cy="2592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3640" y="1844640"/>
            <a:ext cx="2600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ju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4721400"/>
            <a:ext cx="25923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19640" y="4005360"/>
            <a:ext cx="2592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901"/>
                </a:solidFill>
                <a:latin typeface="Arial"/>
              </a:rPr>
              <a:t>( </a:t>
            </a:r>
            <a:r>
              <a:rPr b="1" lang="zh-CN" sz="4400" spc="-1" strike="noStrike">
                <a:solidFill>
                  <a:srgbClr val="ff1901"/>
                </a:solidFill>
                <a:latin typeface="Arial"/>
              </a:rPr>
              <a:t>圆圈 </a:t>
            </a:r>
            <a:r>
              <a:rPr b="1" lang="zh-CN" sz="4000" spc="-1" strike="noStrike">
                <a:solidFill>
                  <a:srgbClr val="ff1901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1700280"/>
            <a:ext cx="2597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901"/>
                </a:solidFill>
                <a:latin typeface="Arial"/>
              </a:rPr>
              <a:t>( </a:t>
            </a:r>
            <a:r>
              <a:rPr b="1" lang="zh-CN" sz="4400" spc="-1" strike="noStrike">
                <a:solidFill>
                  <a:srgbClr val="ff1901"/>
                </a:solidFill>
                <a:latin typeface="Arial"/>
              </a:rPr>
              <a:t>羊圈</a:t>
            </a:r>
            <a:r>
              <a:rPr b="1" lang="zh-CN" sz="4000" spc="-1" strike="noStrike">
                <a:solidFill>
                  <a:srgbClr val="ff1901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1901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98100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多音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6160" y="4076640"/>
            <a:ext cx="151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qu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2060640"/>
            <a:ext cx="3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414972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7667640" y="5157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10800"/>
                </a:moveTo>
                <a:lnTo>
                  <a:pt x="17850" y="3794"/>
                </a:lnTo>
                <a:lnTo>
                  <a:pt x="17850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700360" y="1197000"/>
            <a:ext cx="2951280" cy="1368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340000" y="2637000"/>
            <a:ext cx="59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红生病了，没有来上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411280" y="119700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9999"/>
                </a:solidFill>
                <a:latin typeface="宋体"/>
              </a:rPr>
              <a:t>句式训练：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9999"/>
              </a:solidFill>
              <a:latin typeface="宋体"/>
              <a:ea typeface="宋体"/>
            </a:endParaRPr>
          </a:p>
        </p:txBody>
      </p:sp>
      <p:sp>
        <p:nvSpPr>
          <p:cNvPr id="90" name=""/>
          <p:cNvSpPr/>
          <p:nvPr/>
        </p:nvSpPr>
        <p:spPr>
          <a:xfrm>
            <a:off x="3270600" y="3429000"/>
            <a:ext cx="50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因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所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3581280" y="37339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3962520" y="38862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3962520" y="4038480"/>
            <a:ext cx="3504960" cy="1919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3962520" y="419112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>
            <a:lum bright="-36000"/>
          </a:blip>
          <a:stretch/>
        </p:blipFill>
        <p:spPr>
          <a:xfrm>
            <a:off x="4419720" y="43434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48006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2578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3257640" y="2708280"/>
            <a:ext cx="5886360" cy="4281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-1981080" y="3141720"/>
            <a:ext cx="6286320" cy="457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 rot="19933800">
            <a:off x="6803640" y="189000"/>
            <a:ext cx="3048120" cy="221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34290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4838400" y="681120"/>
            <a:ext cx="2851920" cy="1749600"/>
            <a:chOff x="4838400" y="681120"/>
            <a:chExt cx="2851920" cy="1749600"/>
          </a:xfrm>
        </p:grpSpPr>
        <p:sp>
          <p:nvSpPr>
            <p:cNvPr id="104" name=""/>
            <p:cNvSpPr/>
            <p:nvPr/>
          </p:nvSpPr>
          <p:spPr>
            <a:xfrm rot="11413800">
              <a:off x="4932000" y="907200"/>
              <a:ext cx="2664000" cy="1297080"/>
            </a:xfrm>
            <a:prstGeom prst="cloudCallout">
              <a:avLst>
                <a:gd name="adj1" fmla="val -40439"/>
                <a:gd name="adj2" fmla="val 56115"/>
              </a:avLst>
            </a:prstGeom>
            <a:solidFill>
              <a:srgbClr val="bbe0e3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7760" y="1267200"/>
              <a:ext cx="146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赶快把羊圈修一修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堵上那个窟窿吧 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692360" y="3339360"/>
            <a:ext cx="3030480" cy="1834920"/>
            <a:chOff x="1692360" y="3339360"/>
            <a:chExt cx="3030480" cy="1834920"/>
          </a:xfrm>
        </p:grpSpPr>
        <p:sp>
          <p:nvSpPr>
            <p:cNvPr id="107" name=""/>
            <p:cNvSpPr/>
            <p:nvPr/>
          </p:nvSpPr>
          <p:spPr>
            <a:xfrm rot="408000">
              <a:off x="1834920" y="3499920"/>
              <a:ext cx="2808000" cy="1513080"/>
            </a:xfrm>
            <a:prstGeom prst="cloudCallout">
              <a:avLst>
                <a:gd name="adj1" fmla="val -38430"/>
                <a:gd name="adj2" fmla="val 50814"/>
              </a:avLst>
            </a:prstGeom>
            <a:solidFill>
              <a:srgbClr val="bbe0e3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92360" y="3860640"/>
              <a:ext cx="288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      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羊已经丢了，还修羊圈干什么？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  <p:sndAc>
      <p:stSnd>
        <p:snd r:embed="rId13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59280" y="2576520"/>
            <a:ext cx="5886360" cy="4281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-609480" y="228600"/>
            <a:ext cx="6286320" cy="457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952880" y="449568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3886200" y="39625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3733920" y="41148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388620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4343400" y="48769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4952880" y="457200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693432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6934320" y="44197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1447920" y="0"/>
            <a:ext cx="3429000" cy="2494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429000" y="152280"/>
            <a:ext cx="4456080" cy="1524240"/>
          </a:xfrm>
          <a:prstGeom prst="wedgeRoundRectCallout">
            <a:avLst>
              <a:gd name="adj1" fmla="val -47435"/>
              <a:gd name="adj2" fmla="val 70000"/>
              <a:gd name="adj3" fmla="val 16667"/>
            </a:avLst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260280"/>
            <a:ext cx="42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天早上，他去放羊，发现羊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少了一只。原来狼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窟窿钻进去，把羊叼走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4">
            <a:lum bright="-16000"/>
          </a:blip>
          <a:stretch/>
        </p:blipFill>
        <p:spPr>
          <a:xfrm>
            <a:off x="0" y="4648320"/>
            <a:ext cx="2971800" cy="22096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15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09:09:25Z</dcterms:created>
  <dc:creator>微软用户</dc:creator>
  <dc:description/>
  <dc:language>en-US</dc:language>
  <cp:lastModifiedBy>User</cp:lastModifiedBy>
  <dcterms:modified xsi:type="dcterms:W3CDTF">2014-12-04T14:27:59Z</dcterms:modified>
  <cp:revision>33</cp:revision>
  <dc:subject/>
  <dc:title>幻灯片 1</dc:title>
</cp:coreProperties>
</file>